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5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move the slide</a:t>
            </a:r>
            <a:endParaRPr b="0" lang="en-US" sz="4000" spc="-1" strike="noStrike">
              <a:solidFill>
                <a:srgbClr val="ffffff"/>
              </a:solidFill>
              <a:latin typeface="Corbel"/>
            </a:endParaRPr>
          </a:p>
        </p:txBody>
      </p:sp>
      <p:sp>
        <p:nvSpPr>
          <p:cNvPr id="5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8DD5-4B69-49A8-9686-F37E906323F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rning goals and learning objectives are congruent to the museum director</a:t>
            </a:r>
            <a:r>
              <a:rPr b="0" lang="en-US" sz="1200" spc="-1" strike="noStrike">
                <a:solidFill>
                  <a:srgbClr val="000000"/>
                </a:solidFill>
                <a:latin typeface="Calibri"/>
              </a:rPr>
              <a:t>’</a:t>
            </a:r>
            <a:r>
              <a:rPr b="0" lang="en-US" sz="1200" spc="-1" strike="noStrike">
                <a:solidFill>
                  <a:srgbClr val="000000"/>
                </a:solidFill>
                <a:latin typeface="Times New Roman"/>
              </a:rPr>
              <a:t>s request in designing a training curriculum for volunteers to learn and perform the tasks in leading tours of the exhibit and </a:t>
            </a:r>
            <a:r>
              <a:rPr b="0" lang="en-US" sz="1200" spc="-1" strike="noStrike">
                <a:solidFill>
                  <a:srgbClr val="000000"/>
                </a:solidFill>
                <a:latin typeface="Arial"/>
              </a:rPr>
              <a:t>staffing the museum </a:t>
            </a:r>
            <a:r>
              <a:rPr b="0" lang="en-US" sz="1200" spc="-1" strike="noStrike">
                <a:solidFill>
                  <a:srgbClr val="000000"/>
                </a:solidFill>
                <a:latin typeface="Arial"/>
                <a:ea typeface="AppleGothic"/>
              </a:rPr>
              <a:t>in</a:t>
            </a:r>
            <a:r>
              <a:rPr b="0" lang="en-US" sz="1200" spc="-1" strike="noStrike">
                <a:solidFill>
                  <a:srgbClr val="000000"/>
                </a:solidFill>
                <a:latin typeface="Arial"/>
              </a:rPr>
              <a:t>formation station to answer visitors</a:t>
            </a:r>
            <a:r>
              <a:rPr b="0" lang="en-US" sz="1200" spc="-1" strike="noStrike">
                <a:solidFill>
                  <a:srgbClr val="000000"/>
                </a:solidFill>
                <a:latin typeface="Calibri"/>
              </a:rPr>
              <a:t>’</a:t>
            </a:r>
            <a:r>
              <a:rPr b="0" lang="en-US" sz="1200" spc="-1" strike="noStrike">
                <a:solidFill>
                  <a:srgbClr val="000000"/>
                </a:solidFill>
                <a:latin typeface="Arial"/>
              </a:rPr>
              <a:t> questions. The first two goals focuses on the museum specialized paintings and information center. Volunteers will be given learning materials to train and learn from in order to perform the task of leading tours, and answering visitors questions with competenc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6D39-BC03-4EDE-A501-8624A256536B}"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have the last two learning goals and learning objectives congruent to the museum director</a:t>
            </a:r>
            <a:r>
              <a:rPr b="0" lang="en-US" sz="1200" spc="-1" strike="noStrike">
                <a:solidFill>
                  <a:srgbClr val="000000"/>
                </a:solidFill>
                <a:latin typeface="Calibri"/>
              </a:rPr>
              <a:t>’</a:t>
            </a:r>
            <a:r>
              <a:rPr b="0" lang="en-US" sz="1200" spc="-1" strike="noStrike">
                <a:solidFill>
                  <a:srgbClr val="000000"/>
                </a:solidFill>
                <a:latin typeface="Times New Roman"/>
              </a:rPr>
              <a:t>s request in the task of </a:t>
            </a:r>
            <a:r>
              <a:rPr b="0" lang="en-US" sz="1200" spc="-1" strike="noStrike">
                <a:solidFill>
                  <a:srgbClr val="000000"/>
                </a:solidFill>
                <a:latin typeface="Arial"/>
              </a:rPr>
              <a:t>maintaining an Excel database of patron information and calling and e-mailing patrons to raise funds. Volunteers will be given a pretest for measuring Microsoft Excel knowledge and learning materials to perform the task of calling and emailing patrons. The learning goals and objectives are designed clear with specific purpose and instruction for the training </a:t>
            </a:r>
            <a:r>
              <a:rPr b="0" lang="en-US" sz="1200" spc="-1" strike="noStrike">
                <a:solidFill>
                  <a:srgbClr val="000000"/>
                </a:solidFill>
                <a:latin typeface="Times New Roman"/>
              </a:rPr>
              <a:t>curriculum.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B3B6-E891-4044-AAE2-8CA98E63FE9B}"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DEA3F-E808-4064-BA08-9F9B2088F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B499A-28C7-4501-8189-3CC92E39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E7690CF-1A1C-4FCC-9CC0-0B57E74B19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8A564A5-E707-4B55-8281-D1D8F14763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59BCB37-87B1-41F9-AA0D-E6EBD18397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28810DC-406C-48CF-A7EA-1C6910AAA8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95A23A8-B52E-4197-B35E-DBBA43AA47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CA262B1-38C0-44CF-AFB1-2DCA60255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EFAE450-6CE0-42DC-96A3-AB4E78DC5B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2702F37-A233-49CE-B832-6A72FA156C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11D4289F-6728-4D5B-82E8-205DCB3CB8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4C8D2D9A-5F11-4A6A-A03F-321FA49A0F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DF47B-2EE2-47AA-B38A-4F06CF7C3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6457309-FD8B-472E-957D-42130F712F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4D20338-A647-4159-B2BA-B39B7EB290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D776454-F54E-4A85-8555-F18ED5429C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081B584-2ED4-4E2E-9E34-70D7B327AF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0932F5F-546A-41CB-B1A6-A7709BFB88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42D4731-82BE-4F53-A17E-1F56B753ED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71F38FF-20E1-4C4E-B17A-49CED8EA74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04CEEF2-F1EC-47AC-BFB6-0219429627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3A0CEC7-7503-4B06-AE08-1649B87DE4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1A74013-12CE-4DA8-A74F-ECC2A84187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B7D4B-5522-49FE-AC63-92B7E1800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43C3B93-10BB-4CA4-8211-4F00DE8932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E5548E-618B-4D5F-B42D-B0368B14B7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73C628-09A8-4CD9-B366-9DD85F6A53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AF7F93-BD30-4815-8A79-70100AE63C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3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6D91D4-022F-40B4-A61B-CBFB79970D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D6FAA3-8CB1-49C7-A880-CE05E9495D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BBB9C5-C561-4D5B-98DA-7A75A19DAC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3D091D-82D1-463C-A734-88BA4691B0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8DFCF4-90FD-4ACE-AEB8-3289DFAA3E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1335C9-6876-4760-BF59-947C22908E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F2F34E2-E01E-4B77-96BB-C8EC82C77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DA0BA0-7A10-42D6-A8A8-C213EBC992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F0A330-ADF3-409A-A042-4FE7EE425E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6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0DA3949-B345-461F-97DE-2148EABBEF1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BF7D2A-0ED5-429A-B1DA-903FABEDFF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D57270-3189-46B6-8F2C-52F5405037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662097-6884-4CD1-9472-4B92500D01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00B270-A96A-4623-81DF-EAE629057C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C5E637-6D07-4834-BF19-757E4FFCAD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C4E1E7-2271-4F92-B6C8-7367B9EE6B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7DB6FB-E883-4DD5-BC3F-225B04CBEC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142D5E-9283-4981-A8A8-1019CD4C5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AC9768-9151-485A-902E-4FE119ADD3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8EFC6F-04CD-46D4-96AA-5E86F60A59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6B7733-3CB2-406D-B8AF-78F7004B59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C1ACD0-EA81-4FFF-BF75-FDE31C7C85C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0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17728B5-60D5-464C-9C8A-414E6C8154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A1AE1D-8342-4B60-B650-75F0730CC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EC264BE-219C-46C9-9A7C-D72739E50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AA426F-F07F-44C9-91B7-C7F6CF3AF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1FA688A-E177-4009-B352-519C3F11F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7ABDAB-C9BE-45B1-8A4D-35AFE16DF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306FA-B3B2-4489-B976-246C368DE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54AB18-B7C7-4AB4-828D-17A6088E7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E8BA58-156A-4E03-962C-7C20A4F74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FF68F9-F8AE-44AC-B2A4-6CD1A1B0F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62DA65-ED83-4AFC-8BA7-681A25E5D7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135314B-9A6A-4C37-BC61-F9571409A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DEED7BB-3E9C-4263-8CC7-00599A96C4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9CA683-D0D6-42A3-8C65-547BA720E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18EA418-E2AA-4616-9D27-8FFED018A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DB8CDC5-2BB3-4BFA-BC3A-C5B62FE87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1006BC-4DC4-4209-9903-F86B668C31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8"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40CC7-EBA5-4BAF-A01B-8963AC4B7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CD7EA99-4EB5-4F7B-9E98-586E68AE22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BF0285-0ED2-4D90-8A02-0FEDFBCD9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69B45C-1A7A-4117-AFD4-F2C009940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322557-92A1-4B1E-950A-893632FE7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640A49E-79ED-4847-8B1E-E3696D838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91691B2-7A0C-4AC3-A9D7-E42FB4FFB9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B18CB90-E4D6-4EE5-80EC-FD739F5E76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EEEBDAC-446C-4A88-B8F1-EFA36BDAE5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91186E-9237-4EC0-BF3D-338CC64F9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3A8618D-49B4-49BC-B9C6-6C6347CA9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7CDDE-9020-4351-AB3C-E8108D1C5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E49C8D-EF79-4BA3-8F83-4C87C3970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22E05F4-5ACE-4BCA-A829-6A6E8DC964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19E2E98-1CD5-45E6-B598-06243CFDB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AEE9E7-4F31-450E-8BC0-1ABBFFC35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AF3041-E56C-4F11-B847-DFAAAF023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35B709-F1DD-4A42-9457-D0CB9410C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16421A-7F83-49AE-87A9-DF18B7200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7599A41-1DEA-4332-BC62-6A8B42DD21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6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BA111FC-206F-40CE-B7FC-74531F283E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9C89148-256C-480B-9183-37CDC84CF9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4D8BF-1C2E-4C47-842D-491795190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6F580C-DE6E-40AE-852B-B1AB2938D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8146B4-C993-491D-B947-845CAC0299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74337A-537F-4F48-B4CC-8FBF441B22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236A65-0DAF-4B4C-8DC6-A8C7B20BF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442E8C-13C0-41D9-A46D-6FD198F8E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5672C6-9720-44F5-AA2E-91B22CC369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F7B935-015A-4D85-81AD-D6E509E57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EF25F7-471D-457F-9FFA-1E3ABA7C0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FF852B-9B6B-4574-A57B-390339D9B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0923D83-0FDB-4237-88A4-A759B3BB8A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5678F-A0CF-4DE9-9A97-28D5F3CAB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298B15-0029-4B2B-AA4B-9AC8247559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D8F52D6-C4A3-4731-97F9-1D41D0532B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1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D2E8B1-86D4-4C5E-A3C0-690F0C88FA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B347D1D-2881-416C-8794-465D509B22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7083060-EDC0-46EF-9879-D4A0FA1779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4E4BA28-E6BA-4B96-9FB7-38F66BF5D5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EF1BBED-B13E-4486-9B29-7B9F6EDC0D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8A5285E-E12A-42F3-8330-D9B3CA6531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0C5286-5C6E-46B7-88DA-0A1634D1EB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031C8EA-0753-49CB-A820-22A09EBC61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E07CF-A47C-4772-9819-E77AAD1FE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6C77E0A-857D-4394-8F3B-59EFA7950D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0BDA120-7006-4F65-8C3F-FEB84E1887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5B1FB92-38A1-45F0-9E8A-A354A52E4D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30E85DB-8F9A-4802-B2D4-C98DA63C71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AAD52D0-AF2C-4E5A-80EF-FFDC98992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5230D7-55E7-40B5-8B23-817ED35143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42ACC40-37B1-4152-A7B6-6BB4D231A6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473E95F-CADA-4213-8B94-68767471E2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AFCEE08-6420-489F-81BC-4637DCFE30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4E0308-7F88-463F-85F6-65F80FF5F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BD7A-C789-4383-96D3-535A44CCE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70070F0-E733-41E0-B939-BFB02E031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154F06C-FB71-4B22-8DD2-E2C366AC9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E858AB-D734-461D-9B38-2452EC10CA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937186E-E510-4799-AB27-7DE77E1C1D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9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373B4CA-F771-4F47-A33C-4D88AF88E7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4ED26CBE-6733-4C1B-9077-40B8294345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31E3F1A-5535-4F1B-AF71-EC108B4C75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C753EEE-6B62-47AF-B80A-797D44F5A8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DDCA3BD-B35A-41EF-A430-AA55233CB7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01953D2-3F33-43A1-9069-3AA7842868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6956C-2543-4A23-9526-340A75887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A1EABD3-4BB4-486D-8F7C-C0411EFF79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70E30F1-D69C-4B65-8DFB-808EEA143B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61504F4-2E9A-4FBB-AC7E-2712F74229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D0FF818-FC07-4DC5-9519-8D6655CB40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7803359-F413-4BA3-AF5B-41287288EF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81D1D2C-E9B2-4355-9342-43EE706BD4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3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ACED2F7-34BF-4B12-B798-40E13B7953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E06C38A-CB76-4BE9-BFA6-9F1FB66E52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712596A-AA8A-4A09-BEAB-07DE25FC36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B7E7797-08A1-415E-9420-EFA74885F7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 name="PlaceHolder 3"/>
          <p:cNvSpPr>
            <a:spLocks noGrp="1"/>
          </p:cNvSpPr>
          <p:nvPr>
            <p:ph type="dt" idx="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5"/>
          <p:cNvSpPr>
            <a:spLocks noGrp="1"/>
          </p:cNvSpPr>
          <p:nvPr>
            <p:ph type="sldNum" idx="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CD1E-8B0A-4DDF-953F-5551CE82E6A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3"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4"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387" name="PlaceHolder 3"/>
          <p:cNvSpPr>
            <a:spLocks noGrp="1"/>
          </p:cNvSpPr>
          <p:nvPr>
            <p:ph type="dt" idx="28"/>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88" name="PlaceHolder 4"/>
          <p:cNvSpPr>
            <a:spLocks noGrp="1"/>
          </p:cNvSpPr>
          <p:nvPr>
            <p:ph type="sldNum" idx="29"/>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FC24-7651-426C-A4AB-919538493F2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89" name="PlaceHolder 5"/>
          <p:cNvSpPr>
            <a:spLocks noGrp="1"/>
          </p:cNvSpPr>
          <p:nvPr>
            <p:ph type="ftr" idx="30"/>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2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29" name="PlaceHolder 3"/>
          <p:cNvSpPr>
            <a:spLocks noGrp="1"/>
          </p:cNvSpPr>
          <p:nvPr>
            <p:ph type="dt" idx="3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0" name="PlaceHolder 4"/>
          <p:cNvSpPr>
            <a:spLocks noGrp="1"/>
          </p:cNvSpPr>
          <p:nvPr>
            <p:ph type="ftr" idx="3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1" name="PlaceHolder 5"/>
          <p:cNvSpPr>
            <a:spLocks noGrp="1"/>
          </p:cNvSpPr>
          <p:nvPr>
            <p:ph type="sldNum" idx="3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015D-FEB7-4AD7-8EE6-26183BB19D8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7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1" name="PlaceHolder 3"/>
          <p:cNvSpPr>
            <a:spLocks noGrp="1"/>
          </p:cNvSpPr>
          <p:nvPr>
            <p:ph type="dt" idx="3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72" name="PlaceHolder 4"/>
          <p:cNvSpPr>
            <a:spLocks noGrp="1"/>
          </p:cNvSpPr>
          <p:nvPr>
            <p:ph type="ftr" idx="3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73" name="PlaceHolder 5"/>
          <p:cNvSpPr>
            <a:spLocks noGrp="1"/>
          </p:cNvSpPr>
          <p:nvPr>
            <p:ph type="sldNum" idx="3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05F5-CBF2-4AB3-BAA4-B2B7B91EFFA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0" y="4743360"/>
            <a:ext cx="9144000" cy="211464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 name="Straight Connector 7"/>
          <p:cNvSpPr/>
          <p:nvPr/>
        </p:nvSpPr>
        <p:spPr>
          <a:xfrm>
            <a:off x="0" y="4714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5" name="PlaceHolder 3"/>
          <p:cNvSpPr>
            <a:spLocks noGrp="1"/>
          </p:cNvSpPr>
          <p:nvPr>
            <p:ph type="dt" idx="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2740-8AFE-4F5E-9D3F-B75EB00A1F0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ftr" idx="6"/>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87" name="PlaceHolder 3"/>
          <p:cNvSpPr>
            <a:spLocks noGrp="1"/>
          </p:cNvSpPr>
          <p:nvPr>
            <p:ph type="dt" idx="7"/>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sldNum" idx="8"/>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9A83-817C-4F72-9308-1D20C44C453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ftr" idx="9"/>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7"/>
          <p:cNvSpPr/>
          <p:nvPr/>
        </p:nvSpPr>
        <p:spPr>
          <a:xfrm>
            <a:off x="0" y="0"/>
            <a:ext cx="9144000" cy="182880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Straight Connector 8"/>
          <p:cNvSpPr/>
          <p:nvPr/>
        </p:nvSpPr>
        <p:spPr>
          <a:xfrm>
            <a:off x="-4680" y="182880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1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3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sldNum" idx="11"/>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DA32-FCA4-49E5-9B14-7BF34F0A0B2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3" name="PlaceHolder 5"/>
          <p:cNvSpPr>
            <a:spLocks noGrp="1"/>
          </p:cNvSpPr>
          <p:nvPr>
            <p:ph type="ftr" idx="1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7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3" name="PlaceHolder 3"/>
          <p:cNvSpPr>
            <a:spLocks noGrp="1"/>
          </p:cNvSpPr>
          <p:nvPr>
            <p:ph type="dt" idx="13"/>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4" name="PlaceHolder 4"/>
          <p:cNvSpPr>
            <a:spLocks noGrp="1"/>
          </p:cNvSpPr>
          <p:nvPr>
            <p:ph type="sldNum" idx="14"/>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3B63-B5CD-428E-AF8D-BE061A65C78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ftr" idx="1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1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15" name="PlaceHolder 3"/>
          <p:cNvSpPr>
            <a:spLocks noGrp="1"/>
          </p:cNvSpPr>
          <p:nvPr>
            <p:ph type="dt" idx="16"/>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sldNum" idx="17"/>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F791-0F34-4187-8EF0-5A66403019B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17" name="PlaceHolder 5"/>
          <p:cNvSpPr>
            <a:spLocks noGrp="1"/>
          </p:cNvSpPr>
          <p:nvPr>
            <p:ph type="ftr" idx="18"/>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5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57" name="PlaceHolder 3"/>
          <p:cNvSpPr>
            <a:spLocks noGrp="1"/>
          </p:cNvSpPr>
          <p:nvPr>
            <p:ph type="dt" idx="19"/>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58" name="PlaceHolder 4"/>
          <p:cNvSpPr>
            <a:spLocks noGrp="1"/>
          </p:cNvSpPr>
          <p:nvPr>
            <p:ph type="sldNum" idx="20"/>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017D-7FBA-4C91-9B5C-0149E4527ED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59" name="PlaceHolder 5"/>
          <p:cNvSpPr>
            <a:spLocks noGrp="1"/>
          </p:cNvSpPr>
          <p:nvPr>
            <p:ph type="ftr" idx="21"/>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9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99" name="PlaceHolder 3"/>
          <p:cNvSpPr>
            <a:spLocks noGrp="1"/>
          </p:cNvSpPr>
          <p:nvPr>
            <p:ph type="dt" idx="22"/>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sldNum" idx="2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8E5B-BCF1-4885-8724-9902D317564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01" name="PlaceHolder 5"/>
          <p:cNvSpPr>
            <a:spLocks noGrp="1"/>
          </p:cNvSpPr>
          <p:nvPr>
            <p:ph type="ftr" idx="24"/>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9"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40"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4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343" name="PlaceHolder 3"/>
          <p:cNvSpPr>
            <a:spLocks noGrp="1"/>
          </p:cNvSpPr>
          <p:nvPr>
            <p:ph type="dt" idx="25"/>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4" name="PlaceHolder 4"/>
          <p:cNvSpPr>
            <a:spLocks noGrp="1"/>
          </p:cNvSpPr>
          <p:nvPr>
            <p:ph type="sldNum" idx="2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2D02-3205-423A-A82F-2AE3BD2D81A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45" name="PlaceHolder 5"/>
          <p:cNvSpPr>
            <a:spLocks noGrp="1"/>
          </p:cNvSpPr>
          <p:nvPr>
            <p:ph type="ftr" idx="27"/>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1"/>
          <p:cNvSpPr/>
          <p:nvPr/>
        </p:nvSpPr>
        <p:spPr>
          <a:xfrm>
            <a:off x="109080" y="11124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ASSESSMENTS</a:t>
            </a:r>
            <a:endParaRPr b="0" lang="en-US" sz="3600" spc="-1" strike="noStrike">
              <a:solidFill>
                <a:srgbClr val="ffffff"/>
              </a:solidFill>
              <a:latin typeface="Corbel"/>
            </a:endParaRPr>
          </a:p>
        </p:txBody>
      </p:sp>
      <p:pic>
        <p:nvPicPr>
          <p:cNvPr id="518" name="Picture 2" descr="C:\Users\Owner\AppData\Local\Microsoft\Windows\Temporary Internet Files\Content.IE5\BK0RA2J1\MC900432675[1].png">
            <a:hlinkClick r:id="rId1" action="ppaction://hlinksldjump"/>
          </p:cNvPr>
          <p:cNvPicPr/>
          <p:nvPr/>
        </p:nvPicPr>
        <p:blipFill>
          <a:blip r:embed="rId2"/>
          <a:stretch/>
        </p:blipFill>
        <p:spPr>
          <a:xfrm>
            <a:off x="8377200" y="6149880"/>
            <a:ext cx="762120" cy="762120"/>
          </a:xfrm>
          <a:prstGeom prst="rect">
            <a:avLst/>
          </a:prstGeom>
          <a:ln w="0">
            <a:noFill/>
          </a:ln>
        </p:spPr>
      </p:pic>
      <p:sp>
        <p:nvSpPr>
          <p:cNvPr id="519" name="TextBox 3"/>
          <p:cNvSpPr/>
          <p:nvPr/>
        </p:nvSpPr>
        <p:spPr>
          <a:xfrm>
            <a:off x="380880" y="1028880"/>
            <a:ext cx="837720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rPr>
              <a:t>	</a:t>
            </a:r>
            <a:r>
              <a:rPr b="1" lang="en-US" sz="1800" spc="-1" strike="noStrike">
                <a:solidFill>
                  <a:srgbClr val="1b24cf"/>
                </a:solidFill>
                <a:latin typeface="Corbel"/>
              </a:rPr>
              <a:t>Assessment 1</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Arial"/>
              </a:rPr>
              <a:t>A training checklist instrument can assess the evaluation of completeness and consistency of learning. </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Arial"/>
              </a:rPr>
              <a:t>The experienced volunteer designated to oversee the training of the new volunteer will complete the training checklist. </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Arial"/>
              </a:rPr>
              <a:t>The trainer will evaluate whether the trainee is able to match artist with paintings and whether tours are started on time and end on time.</a:t>
            </a:r>
            <a:br>
              <a:rPr sz="1800"/>
            </a:br>
            <a:br>
              <a:rPr sz="1800"/>
            </a:br>
            <a:r>
              <a:rPr b="1" lang="en-US" sz="1800" spc="-1" strike="noStrike">
                <a:solidFill>
                  <a:srgbClr val="1b24cf"/>
                </a:solidFill>
                <a:latin typeface="Corbel"/>
                <a:ea typeface="Arial"/>
              </a:rPr>
              <a:t>Rationale</a:t>
            </a:r>
            <a:br>
              <a:rPr sz="1800"/>
            </a:br>
            <a:r>
              <a:rPr b="0" lang="en-US" sz="1800" spc="-1" strike="noStrike">
                <a:solidFill>
                  <a:srgbClr val="1b24cf"/>
                </a:solidFill>
                <a:latin typeface="Corbel"/>
                <a:ea typeface="Arial"/>
              </a:rPr>
              <a:t>The on-the-job performance assessment provides validity and reliability to the skills and knowledge congruent to the learning objectives. Each volunteer can demonstrate the role and responsibilities acquired from the learning goals and objective. The training checklist can be applied for future volunteers.</a:t>
            </a:r>
            <a:br>
              <a:rPr sz="1800"/>
            </a:br>
            <a:r>
              <a:rPr b="0" lang="en-US" sz="1800" spc="-1" strike="noStrike">
                <a:solidFill>
                  <a:srgbClr val="ffffff"/>
                </a:solidFill>
                <a:latin typeface="Corbel"/>
              </a:rPr>
              <a:t>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1"/>
          <p:cNvSpPr/>
          <p:nvPr/>
        </p:nvSpPr>
        <p:spPr>
          <a:xfrm>
            <a:off x="102600" y="11124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ASSESSMENTS</a:t>
            </a:r>
            <a:endParaRPr b="0" lang="en-US" sz="3200" spc="-1" strike="noStrike">
              <a:solidFill>
                <a:srgbClr val="ffffff"/>
              </a:solidFill>
              <a:latin typeface="Corbel"/>
            </a:endParaRPr>
          </a:p>
        </p:txBody>
      </p:sp>
      <p:pic>
        <p:nvPicPr>
          <p:cNvPr id="521" name="Picture 2" descr="C:\Users\Owner\AppData\Local\Microsoft\Windows\Temporary Internet Files\Content.IE5\BK0RA2J1\MC900432675[1].png">
            <a:hlinkClick r:id="rId1" action="ppaction://hlinksldjump"/>
          </p:cNvPr>
          <p:cNvPicPr/>
          <p:nvPr/>
        </p:nvPicPr>
        <p:blipFill>
          <a:blip r:embed="rId2"/>
          <a:stretch/>
        </p:blipFill>
        <p:spPr>
          <a:xfrm>
            <a:off x="8377200" y="6149880"/>
            <a:ext cx="762120" cy="762120"/>
          </a:xfrm>
          <a:prstGeom prst="rect">
            <a:avLst/>
          </a:prstGeom>
          <a:ln w="0">
            <a:noFill/>
          </a:ln>
        </p:spPr>
      </p:pic>
      <p:sp>
        <p:nvSpPr>
          <p:cNvPr id="522" name="TextBox 3"/>
          <p:cNvSpPr/>
          <p:nvPr/>
        </p:nvSpPr>
        <p:spPr>
          <a:xfrm>
            <a:off x="380880" y="1044720"/>
            <a:ext cx="837720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Corbel"/>
              </a:rPr>
              <a:t>Assessment 2</a:t>
            </a:r>
            <a:endParaRPr b="0" lang="en-US" sz="1800" spc="-1" strike="noStrike">
              <a:solidFill>
                <a:srgbClr val="ffffff"/>
              </a:solidFill>
              <a:latin typeface="Corbel"/>
            </a:endParaRPr>
          </a:p>
          <a:p>
            <a:pPr marL="343080" indent="-343080">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rPr>
              <a:t>This on the job performance assessment will require the assistance of a more experienced volunteer. </a:t>
            </a:r>
            <a:endParaRPr b="0" lang="en-US" sz="1800" spc="-1" strike="noStrike">
              <a:solidFill>
                <a:srgbClr val="ffffff"/>
              </a:solidFill>
              <a:latin typeface="Corbel"/>
            </a:endParaRPr>
          </a:p>
          <a:p>
            <a:pPr marL="343080" indent="-343080">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rPr>
              <a:t>Each new volunteer would demonstrate to their trainer the knowledge gained through the training process identifying whether they know where to accurately place information in the Excel spreadsheet and the amount of time it takes to add the information. </a:t>
            </a:r>
            <a:endParaRPr b="0" lang="en-US" sz="1800" spc="-1" strike="noStrike">
              <a:solidFill>
                <a:srgbClr val="ffffff"/>
              </a:solidFill>
              <a:latin typeface="Corbel"/>
            </a:endParaRPr>
          </a:p>
          <a:p>
            <a:pPr marL="343080" indent="-343080">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rPr>
              <a:t>A training checklist can be used to gain an assessment of their knowledge through training.</a:t>
            </a:r>
            <a:br>
              <a:rPr sz="1800"/>
            </a:br>
            <a:br>
              <a:rPr sz="1800"/>
            </a:br>
            <a:r>
              <a:rPr b="1" lang="en-US" sz="1800" spc="-1" strike="noStrike">
                <a:solidFill>
                  <a:srgbClr val="1b24cf"/>
                </a:solidFill>
                <a:latin typeface="Corbel"/>
              </a:rPr>
              <a:t>Rationale</a:t>
            </a:r>
            <a:br>
              <a:rPr sz="1800"/>
            </a:br>
            <a:r>
              <a:rPr b="0" lang="en-US" sz="1800" spc="-1" strike="noStrike">
                <a:solidFill>
                  <a:srgbClr val="1b24cf"/>
                </a:solidFill>
                <a:latin typeface="Corbel"/>
              </a:rPr>
              <a:t>Newly hired staff members are often teamed with more experienced team members to train and identify knowledge gained through training. The more experienced volunteers can observe the consistency, and confidence of the volunteer. This is an ideal format because the volunteers will be required to know a considerable amount of factual information. They are observed and measured on whether they are competent or not in using Excel program to add, edit, and search patron’s informatio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1:44:40Z</dcterms:created>
  <dc:creator>Ann M Gall</dc:creator>
  <dc:description/>
  <dc:language>en-US</dc:language>
  <cp:lastModifiedBy>SuzanneQuestions</cp:lastModifiedBy>
  <dcterms:modified xsi:type="dcterms:W3CDTF">2011-07-06T20:30:00Z</dcterms:modified>
  <cp:revision>33</cp:revision>
  <dc:subject/>
  <dc:title>PowerPoint Presentation</dc:title>
</cp:coreProperties>
</file>